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wind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A2D-C0E6-4D09-93C5-A8D63F45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956-DC55-4BE8-B254-32F51B7F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3F3-F455-47D5-8192-B7B61AD5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67D-CE16-4CB0-A943-54A541BB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7DA9-B5D5-4A24-93E8-EC62F9E7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B466-B71E-4CA7-933D-A31EE01A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72F5-421C-45AA-B377-2CEEB43F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9927-4494-46CE-9BD2-220AA615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E2A1-C362-4014-9BA4-1DA0E209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8E38-0315-4606-AE86-CA6293BA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070F-DC3B-4E83-9332-E7C83EA9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111-7F5F-4E5F-8214-D36DA1ED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9844-613B-48C6-9C8A-CD525238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B369-D49D-4786-B636-7DFC089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D8D0-0E96-4D4B-849D-A576A738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DC82-3D1F-46AA-913B-D7137999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9D40-E839-4630-9029-E5BF34C9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0177-E823-44C4-8502-BB6B2FD4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A837-86A5-4599-9A53-A7CFAE58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147A5-52E3-4BA7-930B-635376AE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54DD-F784-4440-B553-E8B88B09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AF011-95C4-4B5F-9894-393F5E20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657-7E01-4AC5-8C1E-35FDA851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7867-2595-4B19-B538-CB414C46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A619-DD93-4963-808D-2A5A41BF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DBE3-914C-4030-A29D-D3A2E4F4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483D-C214-4B6A-8499-8F66ED6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6946-0CA7-46AC-8A12-D23D6F11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EEA0-F552-4618-BD90-2DE85723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DC74-BCE0-4761-AD7A-BE6D14D6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5F1C6-5B01-4E3B-8ACE-1DFBD00B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246A6-E7FF-4698-BE80-3A368937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424D9-DBBD-475B-AFD4-6DB9AA02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FC5-6F89-468B-AA45-8AB05188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AFE60-AA58-4E10-8BF5-5AD14310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4BBBA-3E97-4F88-8700-CDB8203C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961E4-5048-4DBA-8AE9-87FFF3F0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6B2A9-C04F-4A6C-862F-D544336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6D01F-157F-47F6-887D-7FEB009E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B79EE-CCD2-49F1-A46A-569846FF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39A5F-49CC-41CD-80A1-6E27781C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2C3F1-4360-414F-814A-0FE9B6AA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BD191-9BB9-4F77-9780-0C63C966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9E2F2-9774-4A3F-9C03-A34CC1A4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9C5-C894-4679-9FE7-93BE667E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138F3-22AA-4D16-A9E7-A63AD988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D9857-721B-4195-AB44-B04F2910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F1B1F-D29D-4189-9259-0066C39F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C7B16-1972-4B1B-B920-A056930A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5BF41-47DD-4FC5-9728-4B14F39C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7F5D0-EF25-433D-82BC-E9C53F3D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58CC8-FE53-43EE-A2A5-B7049C28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A87A1-2DBC-405C-89FA-68DE4D6C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4377F-376F-4748-B7A6-7F119945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06FDA-8400-4F77-9F8B-75E87746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CC9-C305-412D-96BD-8ADCE9A6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A2F14-5AA9-4FA2-BBDB-B57C70AF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D0ECC-EEEC-42A2-9C47-71AFC313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B6FD7-9F68-4ADC-918B-480C88F9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735CA-8DD3-4932-8AF2-315A7191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2F01-9A1E-4078-8C05-E0633DD9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53A15-4C2F-4127-9774-8EC94ADA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8A2DF-0E9D-4A17-8BD9-72D5B785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F70DA-B507-4298-93F5-C03DD536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A8D0F-D821-4FF0-8F4C-A98B70B3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E9F03-F07D-43B7-AA28-347F3C87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63E-5F08-40C0-8769-D2271BE0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927FE-AA9C-4583-9C0A-ED1D1D23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F1221-3612-45A7-905D-380A44BB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3B9C6-1035-4B1C-A299-07B1E944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83F-1D95-4CB0-9054-E835628D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BEF-6630-495F-920B-FDAF0A74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27CE-839A-4EDA-A3A5-5E8E37FBC1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BE99-5F4B-4948-B404-3EADF8E33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5445-8380-47B5-A95B-045A843FCDC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1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2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EEB9-9CFF-495E-89E3-3BAA093C8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1BA4-2B77-4989-A13D-8CBB725C0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7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7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8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8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8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C8BA-52A4-4EB5-AB20-1D74D6638A4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photoclub.by/images/main/2480_main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fotku.ru/img--i-67-w-640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Monotype Corsiva"/>
              </a:rPr>
              <a:t>Цена нашей жизни…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859280" y="4581000"/>
            <a:ext cx="3168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76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7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ванов С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7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тров Р.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7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идорова Е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3059280" y="4437000"/>
            <a:ext cx="5905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ыполнили: ученики 10 А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Corsiva"/>
              </a:rPr>
              <a:t>Вопрос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395280" y="2421000"/>
            <a:ext cx="806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Что подсказывает нам природа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Цели исслед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знакомиться с методами исследования загрязненного возду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ыбор доступной методики изу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ыявить зависимость между загрязнением атмосферы и изменением состояния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нализ результ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Измерение с помощью прибор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6912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ибор Кротова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змерение концентрации вредных веществ  в воздухе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ндикаторными трубками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с помощью газоанализатора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УГ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labarotory-2"/>
          <p:cNvPicPr/>
          <p:nvPr/>
        </p:nvPicPr>
        <p:blipFill>
          <a:blip r:embed="rId1"/>
          <a:stretch/>
        </p:blipFill>
        <p:spPr>
          <a:xfrm>
            <a:off x="182520" y="3941640"/>
            <a:ext cx="3097080" cy="2217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9"/>
          <p:cNvPicPr/>
          <p:nvPr/>
        </p:nvPicPr>
        <p:blipFill>
          <a:blip r:embed="rId2"/>
          <a:stretch/>
        </p:blipFill>
        <p:spPr>
          <a:xfrm>
            <a:off x="6012000" y="2565360"/>
            <a:ext cx="2492280" cy="1836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9"/>
          <p:cNvSpPr/>
          <p:nvPr/>
        </p:nvSpPr>
        <p:spPr>
          <a:xfrm>
            <a:off x="3348000" y="4221000"/>
            <a:ext cx="5796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равиметрическое определение пыли  в воздухе с помощью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эксикатора, аспиратора, фильт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Monotype Corsiva"/>
              </a:rPr>
              <a:t>Организация постов наблюд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45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стом наблюдения является отобранное место, на котором размещен павильон оборудованный соответствующими прибор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Устанавливаются посты наблюдения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240" indent="575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тациона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240" indent="575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Маршру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240" indent="575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ередвиж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0" descr="листик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562800" y="0"/>
            <a:ext cx="2581200" cy="3213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5111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Monotype Corsiva"/>
              </a:rPr>
              <a:t>Визуальное наблю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50920" y="3860640"/>
            <a:ext cx="68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Объект наблюдения: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деревья, кустарники, лишайники, расположенные в районе промышленного предприятия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50920" y="1413000"/>
            <a:ext cx="547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Биоиндикация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- определение качества среды по состоянию живых организм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3" descr="Картинка 5 из 9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197000"/>
            <a:ext cx="2663640" cy="1998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87096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Ход исследова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2" name="Picture 9" descr="Картинка 13 из 8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414972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627280" y="836640"/>
            <a:ext cx="62658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538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Comic Sans MS"/>
              </a:rPr>
              <a:t>Нами был выбран метод визуального исследования местности в районе промышленного предприятия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8200" indent="538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Comic Sans MS"/>
              </a:rPr>
              <a:t>Наблюдение показало прямую зависимость между загрязнением атмосферы и сокращением численности определенных видов лишайников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ff3399"/>
                </a:solidFill>
                <a:latin typeface="Comic Sans MS"/>
              </a:rPr>
              <a:t> Особая чувствительность лишайников объясняется тем, что они не могут выделять поглощенные токсичные веще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133200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149400" y="3638520"/>
            <a:ext cx="52862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Comic Sans MS"/>
              </a:rPr>
              <a:t>По мере приближения к источнику загрязнения слоевище лишайников становится толще и почти утрачивает плодовые тел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Comic Sans MS"/>
              </a:rPr>
              <a:t>По их видовому составу и встречаемости можно судить о степени загрязнения воздух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8" descr="i[29]"/>
          <p:cNvPicPr/>
          <p:nvPr/>
        </p:nvPicPr>
        <p:blipFill>
          <a:blip r:embed="rId1"/>
          <a:stretch/>
        </p:blipFill>
        <p:spPr>
          <a:xfrm>
            <a:off x="6300720" y="4711680"/>
            <a:ext cx="2133720" cy="18129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94920" y="2204640"/>
            <a:ext cx="755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99"/>
                </a:solidFill>
                <a:uFillTx/>
                <a:latin typeface="Comic Sans MS"/>
              </a:rPr>
              <a:t>Деревья и растительность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: в листе, стебле снижено содержание аминокислот, снижена прочность листа, лист повреждается в нем накапливаются токсичные вещества, замедляется рост и деревья теряют хвою. Самые чувствительные деревья хвойные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Picture 11" descr="i[20]"/>
          <p:cNvPicPr/>
          <p:nvPr/>
        </p:nvPicPr>
        <p:blipFill>
          <a:blip r:embed="rId2"/>
          <a:stretch/>
        </p:blipFill>
        <p:spPr>
          <a:xfrm>
            <a:off x="324000" y="260280"/>
            <a:ext cx="21603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 полученного наблюдения можно сделать вывод о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ямой зависимости между загрязнением атмосферы и изменением состояния окружающей сре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14:55Z</dcterms:created>
  <dc:creator>-</dc:creator>
  <dc:description/>
  <dc:language>en-US</dc:language>
  <cp:lastModifiedBy>Nabster</cp:lastModifiedBy>
  <dcterms:modified xsi:type="dcterms:W3CDTF">2010-06-02T20:00:28Z</dcterms:modified>
  <cp:revision>0</cp:revision>
  <dc:subject/>
  <dc:title>Цена нашей жизни…</dc:title>
</cp:coreProperties>
</file>